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107-FB67-40BD-8287-A5F0AC00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C6D-B821-45A7-85BF-B143BEDD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BDB9D-1653-49A4-888D-41DD35C4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4E393-FA50-4D46-B123-CA1FAB1A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82758-77AE-4CC6-B21E-765DF697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750A8-4F6C-473D-B156-F48046DF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417DC-06C6-4A5C-A3C4-A1890041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917A3-CCB1-4D57-AF92-6C4EE622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C75DD-BDAC-4FF8-916F-21085504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844D5-4CE6-498F-A095-7F4011ED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7D470-395C-47A0-AD51-C84045C2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66FEA-AAFA-4F9D-8DF7-DD9D4F34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762A-DE90-424E-A386-70C39288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D299A-1602-46BF-B626-70B18E18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DE934-CF8D-481B-AC04-AC911B87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EBCD1-A8F4-4F43-99B8-B87D0D37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E5999-4596-4AB1-825A-1FB1525D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EC817-B0A7-4B76-B4AF-F01B9B36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5341B-CA7A-4AB4-803D-97C0DF73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99426-40B2-46E2-9B5B-1FC42BA4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88187-3B3B-444F-8EC5-A8CCA550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70BA0-9FF7-40B8-ACD8-36F10ECB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EF186-5274-4E24-8C69-D6FAAF47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BC58-AD58-420E-B9B9-1E8A7B14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5FE60-602B-4CF2-81E0-B8EBB5EC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25DA8-5D84-43CC-A276-E4466F0B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B29F7-EB3D-48DB-959F-49328F72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31AC9-296B-4CE8-AB60-63F622C7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77336-8E13-4D2B-B581-046E5455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A7F8E-1EB6-4CC0-A03E-CB02DB88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EFF5E-D053-4B82-BBAC-B75DEFD8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B30AB-FEA8-48D0-9D72-6C5D92E0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BB324-278C-4256-B3A6-74176864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D02E1-B050-4D77-B003-6E6B2C6B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4082-AE4C-464D-B8CF-E156F9D1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D85F6-8E20-4FF8-A340-08D33E35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7A144-9998-42F6-B3DF-93C7DB81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DB04B-5890-4671-B2A6-6E8EE580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71271-ED8C-4C16-A654-254A6111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60421-2DFF-45DE-941F-4A62011C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C78C9-5D7B-45D6-A98E-B309E0C9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F6996-582F-4A51-A70D-70ACACC0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D4787-F909-4266-926B-8DE21DDA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78A09-44B3-4483-9DC8-5F8DEF48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1E78F-7FD2-4FD9-9D6E-4495843B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D19E-934D-4D19-969F-7F0150E9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CE2E9-98E3-45E8-9747-C5FA8958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16F6A-C2D1-4625-9648-8E2CAE5B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0CCCA-F593-4FDC-A5D1-BB9ABFDC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68197-2F52-4357-8B9C-F72B9175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4132D-7881-4C57-A50B-8528E462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93F43-E527-4A02-AF78-85563D36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F5692A-3893-4847-B445-98609B7A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6B0A6E-8545-49BF-857F-9B7D91B8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9AE15-BD09-4509-AA87-7AE81DEE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0DF764-AE69-4955-B2F8-9B0219CD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862E-775F-4E6C-BCC3-F8EDD7B7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2B574-1E5A-473B-BCDC-5C4D8638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497D4-5828-4C88-BA80-933D5FD1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18F1B6-896D-469C-9AD4-662E832A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DF8672-7BAF-4727-831D-9B24F6D6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C52FA-A98D-479B-9D41-34E68816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960B32-576F-4CF3-B595-E344EC90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DB1EDF-531A-42F6-B007-FFDBC33D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79171E-2A18-416D-97CC-D7A55C02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F0AB4-0B67-4CC8-899C-A63FF1F4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08E72A-EA5C-4E41-B7B3-E4A1BE98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F6AE-BB27-4331-9E30-6AB33955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C99671-AE64-411A-A228-569A3CDB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74D5E5-042D-4957-9F18-C2F326F7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F62AC3-E0BD-4DCD-BA2F-EEDD8123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85BE8C-DE02-44E8-9A31-8A1508D9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D5EEF5-F6EB-442B-A54A-BAFBCF23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644A3E-2D1F-4136-8284-3B7DF7B3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A8FBF0-2AC8-42D8-9BA3-683F1E67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9815A-EC6E-424F-AAC9-547B7743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222990-4247-433D-99AD-6DD2EE66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D94165-1A10-40A5-8E94-935C1CE0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7EAB-6C7E-4E98-AB1C-DA3D8000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B75850-7FBB-42FE-878D-6316EEF3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5FA55F-BEE4-4A1A-A1B0-6152B889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BC26A0-9A70-4BD5-BD92-5E177831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D097C9-7F02-43AA-B0A2-5C722587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F16011-3E55-4485-B652-474ED574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72053F-4F8B-4D56-91CB-FE67F23B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450856-F94B-4A00-9A4A-CA1FF0F8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B5FF3E-C1AD-42E9-9DFB-C57A6920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155955-2F43-463F-80F3-8C78BA43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263375-7763-409E-B44A-7716DB81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D5B4-861C-4BDD-B32F-D7E92A08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BD9D3D-F995-4312-B495-A181A292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5F2E9B-3E8F-403B-8810-951C093F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1F7522-1262-4F43-A4FA-C5727051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EDE529-6622-4F6B-A70F-C6C5C00A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574E55-C253-4000-8C73-6DF6E1A4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887F3A-A404-47F0-B191-5CBD6D56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F9D11C-98C0-44C1-85C1-25FE7BC6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E1EC30-37F0-4A57-B50E-66D00924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6640EF-B65B-4D2C-9116-64D91893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8447A9-653C-4FC8-8A84-F3327118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2B19-6ABE-4BD4-8667-5FD4994E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F51AF9-CAAA-4C86-8A07-9DBCD7A7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7F3156-3225-4D63-9D1D-206D7C4F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C3CF37-1742-4276-B45A-C145A02D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DC4CB9-A5AA-4BEE-98CB-9901E39C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DF443E-F151-4177-805B-666B083B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726A66-A8F9-4C7C-A0CF-F30FBFAB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668A76-04F8-4469-B499-1213E6B2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2B005D-8E96-4D6C-8789-8C26F06E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3F56E6-9C0F-4307-9C6D-B2AB9493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E25D5F-01A3-46B7-92D0-F1F1D6EA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72DD-E486-4D02-9FCA-334387F0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D976-74AA-4A2C-BC5E-06995ABA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FED422-9EBF-4468-A39E-9A23D0D4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88C885-2C9C-4DDC-8D25-4C452869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FA932E-2B28-4107-BD3E-3319D4B6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0CB2CB-2C3E-4780-991B-11029C60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691361-544D-4293-BA4D-62062ECD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9966C4-50EE-456D-92C3-772BE6DF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3CA9ED-2CA0-4CC9-9520-F58EA7AC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669322-2B83-4478-ABBC-792D698D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C09685-F25F-48C1-9601-F0487DC2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540154-7E4C-43CC-BE58-766C1323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32AB-E42D-4DAC-9ED1-C55679E3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308798-DD0E-44F2-813F-D0E23119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8091D3-C0AC-4C2E-BA56-33A2374D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6696FD-6049-4D67-BF31-BFF4B3B6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CDA1EC-5304-4BC3-8297-93ECAE9D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95F55B-23EE-4F6D-BA02-AAE8E882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AE6975-C335-4CCB-9C14-E530B3E9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C6582C-9A0C-4106-B5D8-B7CB0142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B47DBC-1A2E-4C19-8869-6C1B4168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09A331-FB1F-450D-A700-39B83D71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9CACA4-9C72-4E2D-99F1-E8820236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0EEA-6A94-4E27-9FC4-C6A9BE23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9F9581-0E58-4736-86F7-D603A8CC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8FF97A-0E55-403F-AC19-EDE59381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7753B3-27FA-49F7-992F-C368370E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0FF218-E6A0-4A79-846A-0E7FEF10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C5CC5C-49CD-4866-AA29-9F2588DA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9AD674-DA8D-448F-9EA6-D352823D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F8FDC1-8FBB-4C78-B271-0F03C04B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CDFCF0-7D5E-46B5-BBAE-C6C8EBDA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3408B7-18F3-48AD-95CB-7A8E1AD6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1C3614-4AB6-4D2C-B299-3F983F28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DA3A-3ABE-478E-AB31-5C3DFF03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8EF96C-5983-4551-9E0E-952D4FCB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3F8C5B-9E7B-4157-A5CE-7CEA1F97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6429F6-ABB5-4595-BB12-C1F7EED2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4D3AA7-D2F8-4B55-86A4-4ECDE012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34AFFF-B6F4-4168-9A61-2A44286F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A1DEEA-61F1-4FA6-9787-CDC8E67B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221F8A-400B-4BDA-BC0E-D5225C63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A0D7C8-D032-459F-AE4C-03C274B8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70DBA7-A638-4B5B-86C4-9B31B72C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1261FE-7B18-43FE-BDDB-450FBFE6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C7A7-6581-4825-A5F0-298466DA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25C3BF-CE0E-4104-9AB4-D9713102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E4CA00-417E-4B3E-81E8-8A9B9485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B1BB72-FCF2-470E-AAD4-137F7E1C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B89902-3170-4694-B989-7A841C4B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3E401E-1546-48BA-A717-242F3692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4EE910-BEC8-4CFF-8C12-88A743B3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BA47B4-740D-4F96-9CCA-5282569E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8C9081-F430-46AA-A93D-AFB6244B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9C708A-14CA-4481-9C65-3702B8C5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11C497-527F-431C-A712-C63A2543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231FF-4B11-49B5-B6E6-A3A1317F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E97612-1111-45D5-A3B7-3CA9EA84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9C63A0-AF3C-42B9-835B-D4E4F4C3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14A689-44F9-4CA4-803B-0B7E400B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9249CF-01B7-444D-ADFD-CC0726EB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771AF9-E191-4847-9B66-D77484BE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AE0A2D-1CBB-455D-857D-54BF1657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61F1B1-01B7-441A-BC7E-3FBDE934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AF87DE-6D37-48DB-AB29-0F1533B5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436062-7984-4FB5-9291-4C8FDE7F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B0BC01-3789-403E-A364-9AB7872B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F28A5-BBCE-45CE-804C-31291D5E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F4798B-D7A6-454E-8A88-1F3E5D5A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6D9EA3-17CE-4E8E-837A-F8CA9A14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C2CCFC-6AE2-49AE-A45A-917E377B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632213-0212-43EF-8920-926EE870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71F062-0A64-4904-9A47-F8AE7B4B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9FE6DE-73A7-477E-9E81-99AF7EA0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076F71-AD74-4920-B66B-65D9C17A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6AC26B-63BD-477B-B5A7-777F3765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9A75B8-5DA1-4A5E-9D98-9A09619A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02E3EA-FD9E-4F45-9EB4-32ED6AF0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DD780-9AE2-4562-A0DE-4B6FAF3E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96C0E5-3CF0-4C40-AC98-3F50C556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CA794E-CF6D-4E30-B2F9-400A6C4D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9673E8-1E71-4533-9D22-19C143CA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5E2E08-3808-432A-B0AD-4D053DB1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4EF2EF-C793-406C-B4A9-E9801515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80E832-ACFB-4804-8C17-5C9449D3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386197-525C-4F89-9BEE-EB8C9629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908FF-D2F7-4AFC-AA07-F82F1027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6184F-F61D-4467-8BD3-10576731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861-C81C-463A-89C9-F41A6162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C2454-7848-445D-82CA-274BDCB4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15647-5123-40AE-B1B5-719916F7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5A6DA-7639-4181-9D05-49AF6023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36020-3304-4C9A-8959-866D8F6C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B0FFD-3AF4-434B-8865-908B525A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0272A-E5BB-461A-8428-2E20A794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6F906-51ED-4BCE-9BA4-436B300A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159A1-5A66-4D8D-86C9-907F3FD9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8779D-A20F-4DEE-88A1-C0BE6DCB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A42E7-A0FB-4C82-8F17-30E53347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56E-1BD9-40C7-899A-97033D43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BFC9D-2374-49CA-B1AB-39DD5321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DB30A-CD7D-4A31-9A1D-CFFA8A8A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B8D7A-3FC6-48D7-8A63-00D04361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4EAA4-7CED-425C-AC06-E03433A9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45BEB-8ABA-4C4A-AC45-6BA712D5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21042-CBA2-4E39-A9CD-241E500F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2C2D8-D642-4C74-A054-A3F92A7C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F3821-6F4B-4EBF-BA58-ED617EE9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EE1B1-C71F-4318-B277-B557AC1B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B5D6D-CABB-4109-969E-3E67366B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2111-DC1C-4FE1-A1D1-E8B7FEE6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9E1A9-F00E-4407-A30D-1362891D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E0BEE-35C9-482C-8A2E-1858C211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23B72-10CB-4D6C-ABD8-36DC0874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54E8A-3EB6-4B4E-BB2D-7C185AA5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83796-9AD5-49E4-AA79-7ABE81A4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31C4D-2DD5-44EB-99FA-11749892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F9A90-4804-4C1B-B441-2C9969F8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1E3BD-C409-4985-9013-D3E0822E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C569E-6B76-4ACC-A66E-5D1200DA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466CE-EF9D-4026-8160-F9DA8BEE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739-D5E7-4E63-9848-D5B2595D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C0A08-F7AC-4DAF-86FC-A6E9E9E2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E23E1-11D4-4B92-971A-DEF220F2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012A9-8BC8-4520-AC47-A95C6D56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940D7-BF1D-4CF1-872C-B547FFA6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003CE-3346-41C0-B0C6-2B6963FB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12B8F-3228-4902-82B1-96B0E0A4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35139-B481-4D81-BC98-E41985CD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68680-98DC-4158-A9E0-FDBA29D4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58FC2-E8C3-4F22-A26A-4C410265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92C45-1E70-40AF-960B-E18E2B9E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817-22AA-4E42-B18A-22606566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6D9F1-FBE5-479F-ACC7-473CF2C7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BD14C-6C57-4503-9434-C43963B1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66C97-1991-4713-BD95-93745584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C6D52-775D-43D1-92D8-3518D1E4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055EF-9B0E-4406-886F-B6293A5F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28E2B-9AD1-4BB6-BED9-8A30F70F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E5B4F-ADFD-4FD8-ABA2-4AD3BB35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5A034-DA46-4471-A71D-B96AB7C2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01195-50E6-4C62-8F65-DA716F32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5FE9F-7FBE-405A-BBA1-8FB01D94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721-DD21-476B-8A53-9DFB36F4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63447-D70B-4B9B-8DA7-CFE0E096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4BC8F-323A-4EBF-9A84-E710B56A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AF30D-3079-41D8-A920-A5463A8C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B1840-B352-4B1B-9AAE-7F298C08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8EF37-3BAD-4B92-AA3E-87EF083E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15A63-345C-41E5-9917-DB064CD8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EE768-37A6-4C09-92AF-A9265C9A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16F73-1E15-42AB-97B1-E583642D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3CC37-0322-4BC8-B3FA-DE6AD2A2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BF394-11F9-4F17-B5F2-86B6CDC6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9CB6-369B-4BCC-9909-8504A3CA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99CE0-A3D2-4A9E-A1AA-DBB24438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97810-2FEE-43D8-BB56-022A46AB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7E244-D671-4B8E-BEFE-D467FAC6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E203B-E9A4-4F29-A216-FBD90064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E7BBD-4F24-4396-B048-13904950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DF28B-E52A-452B-B602-8EDA97F4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3F8CE-2875-4FD0-A447-C893D06A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D8FEC-5E13-44C5-89A8-C7309DDD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14102-697E-426D-AAAD-08067BA3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7A27F-72FA-4265-BACA-F21DDC3D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496B-8BC1-426D-A1F0-8E92E39941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3051-4A04-4502-B6C7-48211CD9BB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F341-9707-4DDA-8708-8CA3F0B2CC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7588-ED6A-4D63-84F9-53DCEDE09D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621E-8AE1-4168-8E7B-C4F437DE38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E640-CADC-452E-A6D4-506D8C9F2A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A5DF-C19C-41EE-A8E4-70AD1D8E20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C957-0861-47BB-9BA0-8B0FFEBBAA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A6D8-14A2-4F0F-90AD-83A4B1A41B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8004-A256-4844-B701-ED42704C41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0743-54E5-482F-8381-D341A12BDB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261C-2332-4B4D-A7A6-873F922984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0F6C-0122-4193-9E3C-0FC959F362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8487-D2A4-42B9-90E8-A10D1BD28A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8046-C727-4DD6-94D9-EA49956BAB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618A-5127-4273-AF50-BF6D34FFE9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9285-214A-4D5F-84E9-B2B9C73456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5E49-B222-46B1-9D19-598E515F0D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C9A1-BFAC-4737-BF77-C76919E14D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DD9C-8AA9-417C-BEC4-E756F7DF10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30BE-1867-4719-BD51-8A0E186A0D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27DA-1656-43F5-A2B6-09C84F099B4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AA78-AB51-4347-9798-5147FF0D7B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94DC-6A8D-41AA-A53B-6A2D09AA73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BB45-7848-41F6-8578-D33C9732AA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70AA-BF5A-4E52-8187-F6CEC14079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4B78-122E-4456-945F-1098AD5D2F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8776-785A-4C94-BE8E-CADF1FE329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B912-6805-4882-A6B5-DC186EBF70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E718-BF15-4985-982D-E0108FB274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0F60-54D8-44C9-B0B8-556FC91B7D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E10F-088B-490A-BFB8-DA32B0E4F4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ADF7-C757-4E84-B0A0-4B0A597C1F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DCCA-43FF-48D0-B043-11D0068ACF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D5BA-9A66-4E85-85BA-8781A086DB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B980-BF4D-426A-B854-0BD4A9E6E3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286E-EBFA-48C6-B95A-F22367031C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CBFA-0583-4532-B9F5-05C302F92E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22FC-25A7-4AFF-A95C-C64ADB807D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36BA-309A-4C1E-A39D-260031AB1C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CEC7-891F-421C-9097-3E8B64B4DD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3DF4-F213-4B49-9991-AEEF91D380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657520" y="1449360"/>
            <a:ext cx="3828960" cy="1352520"/>
          </a:xfrm>
          <a:prstGeom prst="rect">
            <a:avLst/>
          </a:prstGeom>
          <a:ln w="0">
            <a:noFill/>
          </a:ln>
        </p:spPr>
      </p:pic>
      <p:pic>
        <p:nvPicPr>
          <p:cNvPr id="1006" name="图片 2" descr=""/>
          <p:cNvPicPr/>
          <p:nvPr/>
        </p:nvPicPr>
        <p:blipFill>
          <a:blip r:embed="rId2"/>
          <a:stretch/>
        </p:blipFill>
        <p:spPr>
          <a:xfrm>
            <a:off x="136440" y="3381480"/>
            <a:ext cx="8871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139680" y="1679400"/>
            <a:ext cx="8864640" cy="178452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2" descr=""/>
          <p:cNvPicPr/>
          <p:nvPr/>
        </p:nvPicPr>
        <p:blipFill>
          <a:blip r:embed="rId2"/>
          <a:stretch/>
        </p:blipFill>
        <p:spPr>
          <a:xfrm>
            <a:off x="1378080" y="3862440"/>
            <a:ext cx="6505560" cy="22003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3132000" y="206064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3276720" y="259380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5651640" y="2060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5580000" y="263700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7"/>
          <a:stretch/>
        </p:blipFill>
        <p:spPr>
          <a:xfrm>
            <a:off x="8172360" y="213372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8"/>
          <a:stretch/>
        </p:blipFill>
        <p:spPr>
          <a:xfrm>
            <a:off x="8143920" y="263700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9"/>
          <a:stretch/>
        </p:blipFill>
        <p:spPr>
          <a:xfrm>
            <a:off x="3348000" y="443700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10"/>
          <a:stretch/>
        </p:blipFill>
        <p:spPr>
          <a:xfrm>
            <a:off x="3348000" y="508464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11"/>
          <a:stretch/>
        </p:blipFill>
        <p:spPr>
          <a:xfrm>
            <a:off x="6300720" y="443700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12"/>
          <a:stretch/>
        </p:blipFill>
        <p:spPr>
          <a:xfrm>
            <a:off x="6286680" y="5084640"/>
            <a:ext cx="79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431640" y="677880"/>
            <a:ext cx="83822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552600" y="1081080"/>
            <a:ext cx="8038800" cy="4695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2"/>
          <a:stretch/>
        </p:blipFill>
        <p:spPr>
          <a:xfrm>
            <a:off x="1692360" y="3213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3"/>
          <a:stretch/>
        </p:blipFill>
        <p:spPr>
          <a:xfrm>
            <a:off x="2556000" y="32274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4"/>
          <a:stretch/>
        </p:blipFill>
        <p:spPr>
          <a:xfrm>
            <a:off x="6156360" y="3213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5"/>
          <a:stretch/>
        </p:blipFill>
        <p:spPr>
          <a:xfrm>
            <a:off x="7020000" y="32274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6"/>
          <a:stretch/>
        </p:blipFill>
        <p:spPr>
          <a:xfrm>
            <a:off x="169236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7"/>
          <a:stretch/>
        </p:blipFill>
        <p:spPr>
          <a:xfrm>
            <a:off x="2556000" y="41641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8"/>
          <a:stretch/>
        </p:blipFill>
        <p:spPr>
          <a:xfrm>
            <a:off x="622764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9"/>
          <a:stretch/>
        </p:blipFill>
        <p:spPr>
          <a:xfrm>
            <a:off x="7091280" y="41641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10"/>
          <a:stretch/>
        </p:blipFill>
        <p:spPr>
          <a:xfrm>
            <a:off x="1692360" y="5084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11"/>
          <a:stretch/>
        </p:blipFill>
        <p:spPr>
          <a:xfrm>
            <a:off x="2556000" y="50990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12"/>
          <a:stretch/>
        </p:blipFill>
        <p:spPr>
          <a:xfrm>
            <a:off x="6084720" y="5157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13"/>
          <a:stretch/>
        </p:blipFill>
        <p:spPr>
          <a:xfrm>
            <a:off x="6948360" y="517212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352440" y="1971720"/>
            <a:ext cx="8439120" cy="29145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7093080" y="2133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4211640" y="2565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2556000" y="30114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5"/>
          <a:stretch/>
        </p:blipFill>
        <p:spPr>
          <a:xfrm>
            <a:off x="6300720" y="30114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6"/>
          <a:stretch/>
        </p:blipFill>
        <p:spPr>
          <a:xfrm>
            <a:off x="5465880" y="342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7"/>
          <a:stretch/>
        </p:blipFill>
        <p:spPr>
          <a:xfrm>
            <a:off x="7164360" y="34862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8"/>
          <a:stretch/>
        </p:blipFill>
        <p:spPr>
          <a:xfrm>
            <a:off x="6286680" y="390384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9"/>
          <a:stretch/>
        </p:blipFill>
        <p:spPr>
          <a:xfrm>
            <a:off x="7899480" y="391968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318960" y="142920"/>
            <a:ext cx="8506080" cy="657216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9218" descr=""/>
          <p:cNvPicPr/>
          <p:nvPr/>
        </p:nvPicPr>
        <p:blipFill>
          <a:blip r:embed="rId2"/>
          <a:stretch/>
        </p:blipFill>
        <p:spPr>
          <a:xfrm>
            <a:off x="1909800" y="706320"/>
            <a:ext cx="6191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307800" y="501480"/>
            <a:ext cx="8649000" cy="62485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2108160" y="20750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4083120" y="272268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5724360" y="566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5"/>
          <a:stretch/>
        </p:blipFill>
        <p:spPr>
          <a:xfrm>
            <a:off x="6588000" y="56894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6"/>
          <a:stretch/>
        </p:blipFill>
        <p:spPr>
          <a:xfrm>
            <a:off x="3606840" y="62514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7"/>
          <a:stretch/>
        </p:blipFill>
        <p:spPr>
          <a:xfrm>
            <a:off x="4470480" y="62802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514440" y="1662120"/>
            <a:ext cx="8115120" cy="3533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4572000" y="227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5364000" y="23065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4600440" y="4076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5392800" y="410688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512640" y="88920"/>
            <a:ext cx="839340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480960" y="1724040"/>
            <a:ext cx="8182080" cy="34099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2195640" y="227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3765600" y="23050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4557600" y="23050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900000" y="4048200"/>
            <a:ext cx="5904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4:3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